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DE38-95A3-420E-A604-9F6FF974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FE54-2E37-4870-8182-F8D1194D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618-D7A0-4BD9-AC54-6FB55C22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C986-8033-4D34-8874-F4AFAC1B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D874-56A2-429B-9442-FC5C7DD9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42E7-3C2F-4254-9245-320C8EF0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E73-1B97-4715-868E-CF3168C0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E33-AA70-4B31-926F-33EDE274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D364-AF7A-467E-A13B-23AC6619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C1B7-49C1-43BD-9BF4-586DC9C5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89E-A46D-4027-9437-1F9CFF9A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0B6-CDA1-4F36-85A0-3D9B3A10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15D8-1F6F-4224-937F-C2E47BDDD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6020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6543200">
            <a:off x="2439360" y="19796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59f1"/>
                </a:solidFill>
                <a:latin typeface="Arial Black"/>
              </a:rPr>
              <a:t>BEAU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625600">
            <a:off x="6857640" y="2133720"/>
            <a:ext cx="1623960" cy="1623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17532000">
            <a:off x="1860480" y="118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352680" y="0"/>
            <a:ext cx="1706760" cy="2209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2312400">
            <a:off x="5028840" y="3123720"/>
            <a:ext cx="2136600" cy="2135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5400000">
            <a:off x="7770960" y="388476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59f1"/>
                </a:solidFill>
                <a:latin typeface="Arial"/>
              </a:rPr>
              <a:t>Success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 rot="2477400">
            <a:off x="456840" y="4800240"/>
            <a:ext cx="1828800" cy="1670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133720" y="2209680"/>
            <a:ext cx="1779480" cy="2667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6248520" y="5000760"/>
            <a:ext cx="2633400" cy="1857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952880" y="1676520"/>
            <a:ext cx="1393920" cy="1468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 rot="18243000">
            <a:off x="421920" y="2777760"/>
            <a:ext cx="128880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892160" cy="2838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29000" y="5181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2895480" y="5029200"/>
            <a:ext cx="243864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23:39:07Z</dcterms:created>
  <dc:creator>Guest</dc:creator>
  <dc:description/>
  <dc:language>en-US</dc:language>
  <cp:lastModifiedBy>Guest</cp:lastModifiedBy>
  <dcterms:modified xsi:type="dcterms:W3CDTF">2009-12-09T00:48:07Z</dcterms:modified>
  <cp:revision>2</cp:revision>
  <dc:subject/>
  <dc:title>Slide 1</dc:title>
</cp:coreProperties>
</file>